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7F3-1E39-4EA2-A8AD-72E98F54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E5A-BC61-4AB3-BE9B-D8C397B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BA27C-7F3C-4ACF-B523-6CF6059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2B42-2823-4524-B684-DAFE3AAE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1D085-1368-41F3-B15F-58AF003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996A6-2617-44A9-8D33-65261FF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EF474-D315-4F41-92DA-8C061EA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4ED7E-4D47-49AF-9032-4AAC583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89E9E-4020-4C40-8A07-848A217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107F0-7970-47EB-B2D1-1CBAFD60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9A3AE-2D86-4140-A0D3-1AA3A09F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D604-5C1A-4A54-8D17-A97838FC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EC3-B6A4-48AD-93CE-EAAF3907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E145B-DC89-42B8-9249-4AAE3AF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3CA61-9C72-40C8-88F1-E3C4193E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52A0D-52C6-4D07-9014-D46EB8C3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228A9-5C72-49FB-8AAA-FD9878C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50109-83BC-40BB-B897-DF24A58C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F9A2-57B3-4158-8D3E-35CB3D2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8740D-8B08-4235-8B1D-E776721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2FCBB-3C9E-40CA-BF78-6B925E7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22A87-7643-424F-BE5B-E962665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98A77-E357-4669-BAF7-D279CF7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081-8B56-4A09-B845-5669E7BC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7FF1-B857-4314-AD07-13FB181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DAEE3-FC20-47AE-9B82-1939ACC0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DC2D-83C1-413C-A67D-6809E6D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FD839-A439-4C05-80AF-7A7EAC2E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D3A18-3002-4327-8BBF-11AAACD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47169-F04B-465E-9252-EF46A51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4B76-A837-4768-8BF0-087457D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7EE70-604A-4AEF-8237-B4EDDAA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B8B8-A5B0-4C62-BCAC-C1A3E1F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C422B-66F5-40C1-91BD-C1ACE3B2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A35-CC8D-4FB5-AE7C-C0AC7F9A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84623-E2C6-4AB0-B930-7EDE3AE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A451-141B-4E94-AE9E-8DB97F6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1A9D1-007C-4961-95CB-EA0AF0F7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D8F27-D16D-4841-8117-1F04DFFD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1107D-9A85-4EFE-8305-3F8FCA62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0D83A-3D18-45B0-A18C-3FAFE98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C60A2-09BA-4F92-A065-E8DA5A4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9E14A-2943-4CF4-BC77-6035E1E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8D08-8AF1-45A4-84F7-9E9B187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705DF-3A64-43AF-BDE1-1596205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459F-1548-4C35-9E00-DC7092B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1A67-35A9-43D2-A5DD-C825D8D5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1F63E-E2B7-4B39-B9BB-51AC5D2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FA0CC-2C4A-47EA-9D4A-ABA446AF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EA371-D3F3-4E42-9A4E-82218D49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48C31-CDD9-45DD-92AD-7CA6EDF2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5D747-DEBB-44E2-9A5F-AF9319CF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C5666-6FE2-4E58-91AD-C055E7E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2A6C-1B71-4394-A0A1-03C0C26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A9C36-B75C-4259-9F42-7EACAB3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487D7-EFF0-43F9-8CBE-D7FD3B1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166-87DD-42EA-9BC1-3BA70E1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7D8E0-9D5F-40C8-91EF-B8501F56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F16E5-A3CD-4574-B71C-9E00852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AE013-0F58-4296-8B4A-B904D1F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6D29E-8A79-4E91-A708-BC5B869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9A122-3EEC-4DF3-939E-9AF37A6A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C76AA-AAD6-48D4-8B51-26CB40DE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29683-520D-4A3D-8BD0-CE1F2D1A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47F3A-2405-4D6A-A09A-4683E292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42E83-D497-4E6F-BB38-5023D91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576D2-8EBC-40DA-8177-04B0E7D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DAC-0D90-46C7-A0AD-EC16719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7E3D8-65B3-4A2E-8AA0-39C4008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E024E-CE0A-457E-AFAE-495D0EAB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110A0-AC91-47FE-B92B-E3F1DA8A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C8B87-9A21-4762-9DF3-C39ABBB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7B59F-8CB2-4F30-99DC-299B5F1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6B02D-1C53-4C84-A785-3EE17B8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687A8-80A1-4660-A6F5-7430FEB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78129-8430-4947-A086-E03DCC82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34045-7AE7-466B-9011-49422769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14DD8-0F85-4688-AC12-E5DB1816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67A-AD4C-462B-94CF-E7EC60C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229DD-57AF-4A81-834F-82980D13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8D5B7-E7EC-4D58-9CFD-356EE3E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1721C-26E8-4215-B36F-604627A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20F02-86AD-4DB5-94FC-770697FD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A2667-06B6-4598-A7A9-AA552F10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211B2-DA80-4EC2-BDE6-9C29D1B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C6664-A632-4BEC-A174-45B7000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BFBDE-46DC-4769-AF48-C4F287C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C64ED-5DB7-47B1-A769-65E24C28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67F29-F894-4A63-A020-AF842038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7ABD-E545-48C6-A6BF-888787D7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28CE0-0339-4FBA-95F4-CF2215A6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19700-AC8D-4189-A0F3-211DC7BF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EEC91-0699-43C0-9687-67BFE0B5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8E240-458B-4770-B97E-DD7F27BC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10205-FAA5-470E-9D46-955CB6E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E7210-1672-481B-B383-5653900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822BA-3406-4D1F-86A9-31680990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9F47F-3DD2-4A86-8082-24F2CEB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6D289-54DD-42FF-8E5B-5CE83F5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5E3A4-DD36-4BDC-B044-985EFF8E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362-ED6C-4768-AE2F-005734C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7359F-B1F8-4145-9931-E795527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D53A7-A367-4CD4-8662-4703C728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22272-85B8-476A-BE75-5CA6DDE3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AA226-4F81-45C3-9013-D6D00F5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46AB3-29D4-44E2-9A18-4B2D55B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2CE87-C4DE-45AA-98FE-4F36CADB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82C99-8252-48A4-A4E6-EB74ACE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CB6F6-3C22-402F-9DEB-D854DD6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001B1-DBD5-454A-8F6D-B465A3B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4656B-4477-418C-8F8E-9F20797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3E9-ACD8-42D4-A470-3DE33F06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ED0-4C97-4BC4-AADF-B6ECABD0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13708-1B6C-48F7-9F57-7600B9F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0030F-B7E1-4197-954A-BC8B3E69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3CA7B-FF4E-4E11-A318-3A44EAC7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087F2-3EAB-47B6-AB08-90C377B0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D1960-C38F-4168-9CB5-DD12F931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8407F-F331-4DF8-B5BB-EC91FA92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C63C6-AF94-474B-B7A8-C223D517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2AA8A-5973-4E7C-9515-3378080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4CB85-681B-4862-8F0B-30FC371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90B04-B16A-42E2-811F-B7B8C5E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C7F8-20A7-47EF-B8D9-233362E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2F362-F16A-4D24-8ACF-E8E267B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DFDDD-CBCD-452C-855A-8E4AAAB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472C6-DF56-484E-B84A-0FB17B0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362B8-F224-4D4B-A991-912FA6C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4EB4A-35FA-49C9-AB70-67598A1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4DFC7-C63D-4561-ADC6-15C87A02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F1FE1-A573-4D86-9669-F6F1CD97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1681C-9BC3-41E8-A949-E0450289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332D3-4980-4F2F-B670-3DC6F12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FA996-EC18-4AAF-8576-3182D7A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8DCD-F2CB-460C-AE36-1EA0122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CA21E-C72E-4F2B-A5D4-4D65379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4F079-2CBA-436B-990B-3A0F41C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94A5E-8ACA-4950-8BFC-538FC28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A63A7-BDD7-4018-AA55-88E5091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DF4BE-62A1-4FDF-8BFB-6B0FBF1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FB493-725D-4600-980F-4D3B000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D30B0-A9F7-497F-BB28-9AB73DEA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238F6-BEF2-4A29-95E4-FA5266F8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4386C-03C1-4FE5-B589-CC506075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A4272-9CB9-4679-9FD5-D58285FE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D7B7-98C7-4EC0-8010-273BC9E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640A6-5142-4509-B3CB-21A5A1E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8331B-5080-46D5-B9E9-E11EC4B3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305C5-4A5E-4F09-9373-B16F7B9D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F6A73-8558-47FD-B940-9F20473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5BE0A-36E3-4FAB-87A7-276D3E8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BBFDA-CBC2-4B73-8A64-ACCC90E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8DDE5-C6D4-4A69-A092-3EF716B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53D40-3003-420E-94B3-6468D6DC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C8ABE-F49A-4D6F-9DB0-C692ACC1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71EE8-E9E1-4D47-B7FD-2DADC5BC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4A74-1881-4E4C-AF26-F7B1A74E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B6314-686A-45A1-B0B6-0B913462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9EEBB-E749-4A63-A45C-9CBF0A6B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48487-4EB5-4C9A-83D2-6B23787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216BD-672A-4BF3-AEA0-D029C6F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F95EB-E263-490F-BF82-7724A25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8B746-08F0-46A3-B24D-E217BF18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69B63-FF8B-4A05-A96E-7964A78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44962-AD6D-4D29-A8E0-D098871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884D8-DB36-45DF-9F87-1DF8EFC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B2F85-522F-464D-A79F-30E9904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A08E-7251-4295-9799-6C329E70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B52D2-DDBA-4017-A968-5400E0E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61C97-A3B4-4F67-B858-945021BA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97BD1-C32F-4FCC-8378-31B19EF2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74A4FC-949E-4F3B-AE58-563CCBCE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C5B91-0CD5-4F94-B0E3-9D96AA9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9D984-8DA5-467C-8EFA-CE02CA52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B1D6A-41BB-41A3-AD1A-1235F1D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02F1C-104B-469D-9EF4-B544A74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0E3DE-09B6-4A53-829C-AFF695B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3E515-5374-4195-AFE4-4ED6EFF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5498-DF0D-451F-AE42-087A8A1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5C86F-A384-498E-B2C0-C587964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338C9-A760-4690-AB79-F7524EE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D532B-25F3-4E9E-B77A-E4D47A3A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16E7C-CC07-4807-B058-C6F7F00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E5CC8-F2D0-4FD9-8228-560E9B7C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E5B5-0551-433C-A130-56AB06F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2B84-2C13-4F4B-A08F-D9AB566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FC7C-5AEE-499F-A497-9EFD809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6B4-4DC9-48FF-8603-774190C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8490-C9B8-405E-AD25-0347430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FDA6-2DB6-4D01-B6DF-F64BE7C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A1E0-0808-42AB-B270-160F1A6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B044-4472-4201-A0D2-A5FBB00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1BBB-5863-4C3D-8B18-CB96B53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90B4-576B-407C-B5D2-A99ECE0C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5B50-4EB8-44A5-BC60-A1ACE090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A19B-3D77-4547-939E-0697C6E6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9505-B133-48C8-9066-1F4861C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A59F-0BDF-4E21-8754-19B20E2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3A7-A90F-4B7A-AC88-3A464B3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24DD-FA09-49B7-810E-40790E4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925E-FB42-4E7E-AEDA-2CE75DFA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3C05-B02E-4742-BF25-637FA30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0732-54F1-4A46-93E2-E94B7F0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C1D7-DF27-4EC6-B1DF-6F41DDA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A659-D5A1-4999-8389-701F0BA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34C8-FCA6-4C1C-BCCA-32A8606A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FF31-E526-4FF3-B430-2D475E0C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C4E4-16B9-479B-9463-62926AA8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57D7-53FA-4CFD-BB55-A3399B3B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D1A-E2F0-4832-AA16-4449A54C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5123-4145-4A5B-A58A-F7603E6C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A650-77B1-4914-8F27-BC6B5F7D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A7BD-B3AD-45AE-8515-62955BC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9C21-A2B7-497F-82B4-C3DB265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9168-EF7F-433A-ACCA-B49A08E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CE2F9-2376-4820-9716-F6FAE96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FCB66-5E75-4D97-841D-59C7A4D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CCC1-490A-4F1D-B7FC-1D4F3EE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5EA9-6D85-4F2E-BCB6-E0A78C4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1F2F8-7245-4C57-A353-33DFC89E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892-1B53-4F7F-862D-FDAF03D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13A1-431E-47E8-A47A-68C10D38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E5CD-1DA8-4FD4-826A-2CEA1467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FF29-E724-46B7-AE5F-3396BBAA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B782-D7B2-4ADF-BF10-B45C45B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F6DE-56E7-4DCA-8A11-A64D1CB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5761-8A15-4934-92A7-8A446EB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7FBA-3B5F-4B5A-8825-C73D168C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879B-D2A1-406F-A46E-2DAC2E8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E410-E061-4A57-8E1A-315161C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8062-3990-4DFF-87A7-47ABD05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3D4-C00E-482B-AE77-40315CC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4B77-402B-4F2D-B7CC-CC10C94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F901-C4BA-4585-A20E-BCBD666D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C41B-FC09-4B10-AAE0-7CAE3B94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8872-95E9-40CA-B354-BE86918E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027F-CBA0-48B1-B3B3-D78087F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BEEA-6C46-4EEB-ACE7-682F4B4B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0A52-3D97-432F-929D-45A4C67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E12F-38E8-454A-A65A-CE47BC3E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AC35-9FFD-442A-BB0E-89B6942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EC596-1649-442E-9B29-374CBEE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E8-5F41-4593-80F4-85057D3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1C6E-2B1D-4CC4-AA61-D38CE65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AE84-D221-49FF-8BFE-E107C4E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38F1-7CDC-4609-96F2-B6BE74A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AE614-BC36-4972-A474-F571E43C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FF4A-3AB3-421B-8A61-DBC6D0A1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D84D1-17D8-42B9-BF29-783DF122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5E83-C809-4757-B853-2E0FDF71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41A7-8DF9-4819-9DCC-FC378E1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301C7-A823-4256-8482-7644B035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AC880-547B-42D9-8CF3-8A21335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92D-0F2A-4358-B310-0FA41C9B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45DC-2225-4682-A39B-FA8C05C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A03B-5A49-41EA-9E1D-508BF024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43568-8E35-4FF4-9A57-031CD41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31A1-D090-4894-9930-8B8F3BB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F76A-737B-4816-B07E-71F80837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8392F-2F0B-4191-B754-9C57ACC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29DE-4827-4687-8777-3BD21DC9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EE48C-BC35-4F83-93AE-004CF575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85973-9994-425C-B0E1-854B243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22A0A-B162-4BB8-85B9-407EDCA2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9FF-F556-4DAE-952F-9A7C439B4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C88-FF49-4250-85FC-FFB00215E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375-25A2-4841-A4FD-62C3488D4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85F-3E9F-4BE8-87F8-59F098347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AEB8-D037-436B-B266-E8D13F133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E06-5822-4AC6-9AB7-302D119D6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CDE-E6D4-4D26-938A-A5DF71330D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72F4-B423-4757-83AA-899AE6DC8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AC8-69F6-427E-B630-8728BF490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426D-5BB9-46F5-8C69-F707CED79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830-B54E-4BEA-9E8B-BEF77B4E86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CE0C-11A8-412F-A809-3B79534A7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916F-FFD3-4DFB-8638-168DAD3A5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E47-AAC3-438B-9DE8-554CFA6F6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4CE-FFF0-47CB-A7B2-835707B07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F71D-021E-4D42-AEF5-3E3FC4070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7CA4-94D3-46B9-997F-5A2166064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8BA-9D61-438D-9981-05CDCF22E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0B07-D753-4CFA-A87D-F51672869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AE76-6C2E-4248-9B32-6ABC5F734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75E9-E3DD-45FD-B5CC-B792CBA4E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7CD-B07A-4FE8-9E45-FC02B9EA0A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F2D-F7D2-451E-B874-7CF7A1EB0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D9F-2529-4FE7-836D-C44D504720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95C6-1D11-48C8-980C-754B3CC6C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E6F-11E4-4872-AC04-C4BB8B76E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7F4-F8E4-46F5-B69A-23E4237A6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70F2-8EB4-45BC-A38E-58C8FB8D5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1C1-45B3-4CBF-9E56-18481F3FA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00AC-D79E-4003-BEB5-7FD4D19C2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9768-C11D-42D0-8412-09B9579D5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13F-222F-4BB3-B3F6-9D8AD58F0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B455-819C-4BB2-BF76-CAD910665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C86-770A-4314-BB64-CEDCDFEB65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DFA2-49EA-44F9-829B-418E6C25C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8558-3B23-47AA-A3BD-1684A6C37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3229-38F9-4AD7-86D8-00A97528C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63B-D33F-41F8-B7F5-8828037AF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315-26E9-453D-A0E4-BC2081FA0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12B-AE05-4549-B25E-5E49D01D4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356-8C8F-4811-9B2E-71651644D7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14720" y="3105000"/>
            <a:ext cx="47145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43080" y="1547640"/>
            <a:ext cx="8458200" cy="3762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885960" y="2924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008080" y="230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024440" y="2852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148360" y="2320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135920" y="2867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174160" y="2320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96524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408132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6099120" y="4091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8244000" y="4091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196524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408132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6099120" y="4738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8244000" y="47386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7169" descr=""/>
          <p:cNvPicPr/>
          <p:nvPr/>
        </p:nvPicPr>
        <p:blipFill>
          <a:blip r:embed="rId1"/>
          <a:stretch/>
        </p:blipFill>
        <p:spPr>
          <a:xfrm>
            <a:off x="495360" y="866880"/>
            <a:ext cx="8153280" cy="565776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7170" descr=""/>
          <p:cNvPicPr/>
          <p:nvPr/>
        </p:nvPicPr>
        <p:blipFill>
          <a:blip r:embed="rId2"/>
          <a:stretch/>
        </p:blipFill>
        <p:spPr>
          <a:xfrm>
            <a:off x="5940360" y="340056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7171" descr=""/>
          <p:cNvPicPr/>
          <p:nvPr/>
        </p:nvPicPr>
        <p:blipFill>
          <a:blip r:embed="rId3"/>
          <a:stretch/>
        </p:blipFill>
        <p:spPr>
          <a:xfrm>
            <a:off x="1778040" y="3457440"/>
            <a:ext cx="1757160" cy="41616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7172" descr=""/>
          <p:cNvPicPr/>
          <p:nvPr/>
        </p:nvPicPr>
        <p:blipFill>
          <a:blip r:embed="rId4"/>
          <a:stretch/>
        </p:blipFill>
        <p:spPr>
          <a:xfrm>
            <a:off x="1389240" y="6019920"/>
            <a:ext cx="2705040" cy="4474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73" descr=""/>
          <p:cNvPicPr/>
          <p:nvPr/>
        </p:nvPicPr>
        <p:blipFill>
          <a:blip r:embed="rId5"/>
          <a:stretch/>
        </p:blipFill>
        <p:spPr>
          <a:xfrm>
            <a:off x="5435640" y="6005520"/>
            <a:ext cx="2705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8193" descr=""/>
          <p:cNvPicPr/>
          <p:nvPr/>
        </p:nvPicPr>
        <p:blipFill>
          <a:blip r:embed="rId1"/>
          <a:stretch/>
        </p:blipFill>
        <p:spPr>
          <a:xfrm>
            <a:off x="1442880" y="2219400"/>
            <a:ext cx="6258240" cy="241920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8194" descr=""/>
          <p:cNvPicPr/>
          <p:nvPr/>
        </p:nvPicPr>
        <p:blipFill>
          <a:blip r:embed="rId2"/>
          <a:stretch/>
        </p:blipFill>
        <p:spPr>
          <a:xfrm>
            <a:off x="2050920" y="3959280"/>
            <a:ext cx="27054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3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